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165-DBED-41CA-B9BD-0CB7E748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91A-BDE2-4975-BB13-BDEC665B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69899-9B2D-4F06-A7D2-FF137F9C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0F1DA-A6C1-4694-816F-F84A0760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36CE8-5C18-4586-BC41-CEF3078A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89F35-0610-4022-8DB5-DDACFDB1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A522A-2057-4EC2-9D88-6E0D1EDC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2AD7B-6197-4AD4-8F0A-1D567BFC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82562-8847-4E70-940C-4EADCD4C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D2FB4-DF10-4808-B6A0-560A04DC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E388D-30F4-4ED1-8442-18C9455A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5A777-D581-4A71-AE53-B5DC9FD2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2B2-6BCA-4205-A1E8-36867991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DD364-C5C7-42AD-B13D-DF910187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D643E-450A-4EEB-B47A-6B30C16B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42E13-2CC9-4A3E-B1D3-99E15E96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41F36-96A6-4C87-AD7E-2DF74936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EC975-4483-4BFB-A9A3-17FB1ACD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00DBA-2643-4551-B872-026499AF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0CADD-8B53-4CBE-BAC7-F4C3DC14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27F2D-FF7B-4E34-8BB2-E2245875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405B8-3263-4974-8A59-5145E077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10132-57E8-420A-92EA-E670D03A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30C-A281-4C8C-B417-84D0EF44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9AF81-7529-4692-9881-A98561CD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8B532-462A-40FB-94CB-8E94A1FE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04768-AE6E-4E22-993F-5A89418F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23E4D-4119-4F92-AA4B-9079C79C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75D3D-7A00-41DD-995E-2CAC455D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F5732-5E23-4041-885B-7CE20F7E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339E6-0864-4D13-B771-94A78E45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9B46D-FB66-4AF9-9EA4-94A5E96C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9A307-94DF-4FCD-BDFF-5FC12983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0A7A8-F356-4335-B61E-12D1CC77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4905-14CD-40EA-AB8C-4F0C9BDD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D5D44-1090-42C4-BCF1-187561E3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3A5FE-BFAA-4CC6-909A-E4AA4DDC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D4469-7584-470E-BC86-702CB4E0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9E4FE-8DDE-4F04-9836-3B12DBBE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DEA07-3F28-4C0F-A142-49428AF4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1CF4F-9EE4-480D-A7DC-5B8EA013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CDA51-0D31-48BA-AB14-4AF57ED6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B80C6-D585-43AD-82D9-0E0F0541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C7E99-35DE-4722-B518-3E8A1BF5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D2535-FFAA-42C7-B37B-7B965589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FCE6-AE0E-47E8-A77D-4CAAB158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1E652-95A5-47A3-86FC-E537AE19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89041-01A6-42A6-BC7F-60C6847C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CDB79-6FB2-44B3-836C-AD70108C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9E607-7132-4EA3-AE0A-1B5B4DC4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5D586-D79E-4EBD-930E-2C94AE8C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EE6B3-CFA5-4650-A955-ECEB9B94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2AA9C-2BA8-4563-9043-025461AB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DA260-EA40-453B-A697-C6548BFB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0E86D-5D89-4F4B-A8C4-BDD8B6BF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BAA03-47D3-47D1-A1FE-3A365B7F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5BCD-6F4E-4D24-AEEF-E7472BB8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E0919-1EEE-49DC-A616-96FD69A7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A0866-3BC3-4079-B972-D0825F1F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143C4-C460-4839-829B-195421D1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02868-0D0D-4F3E-8182-865ECE3F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37F18-62C0-451A-97EA-987A0DC6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F9CA3-C452-47AD-AB57-8A604600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B3A0F-0D84-4A04-BAE6-5CCC1B58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C457F-A87D-4D9B-814F-E13366CF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6317A-8FDF-45E0-A933-2AFFEF67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322CE-5EBE-477D-9A70-457F13D1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DA6D-BCE7-4008-A6BC-91B2DD2B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D80E6-AAD0-4901-987A-9F8339E3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5CEF3-7922-4047-A64E-FF0703E2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A9F80F-023C-49A1-95DB-07A96C4A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516B4-B93E-476A-AC7F-FD8964DE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7E18F-7042-4840-858C-2CBDC4E6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978A67-8738-4F3B-B389-91122979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A5B7C-CA66-4EB5-A6E5-3B6D190E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E6658-727F-414F-BEBB-41AC0C8B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A64A7-4324-4177-AD33-97A2C6B8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24E5D-85E6-492C-8F71-EF5D2305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35AA-6FA7-4CA0-97F9-DC55EF19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48A38-84C1-413E-87AD-AA75B110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94375-B874-436E-9217-06B53FC7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2F678-70BC-4841-95C5-ED43B0FA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B1F0C1-3B84-49B4-B0C2-D6C044E8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2371B-295B-4681-B8C2-932AF296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66E3E-47A5-4510-AFD9-9B559AAB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0D63D-F6EA-43F9-B4F1-CA455C9D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8F2BD3-077D-42E3-A2C3-9B0D4A45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EA9B06-DA67-4722-9542-1FDF5144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89222C-C3A5-4969-BDBA-3BC86BC1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69CC-6649-40F8-89FC-4E3309F0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BC77C9-83CB-4CD7-A4F2-77487AFD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7001D9-DCB4-489A-AD7D-E2211894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AC82C-E07E-4E61-834A-F9391C13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3794C-D12B-4BAD-8445-B048B783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05CD03-7AAB-4F36-B97F-2F4E3357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DCA83-A2F4-485B-B226-246B4ECD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4CD55F-583E-48BD-A685-BD3F26B9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20492-1E4F-4A3C-8317-20780DDA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6FAD5-F1D6-46E9-91A5-46E4BA02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4E4D4D-4580-42B3-BE84-2EA1BBC1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CCBB-2559-4A0A-9356-B1AC2D6B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DEE0A7-679A-4505-9E0A-90D9D55B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337E11-95DF-48BE-B3E7-29CF499C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90F884-DA86-41ED-8FF1-0B30DE20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FC788-CB5C-42D4-9079-06DBCB96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6BCD69-68AA-4C62-A0F0-87619CFE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896F3C-98BE-4991-BC85-262604C7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FEDF3-ED26-43B9-8AC4-01ECA09A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11D339-7C40-4C9C-A39C-CF9B3B9D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338FB1-4C44-4B6B-A4FB-41949982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4E61A-2226-4241-AA15-00B76497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E38-4054-4C07-B1DE-88E9EFFC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650E-AF7B-404C-8973-D2AF0B69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C41DB9-9B12-43A8-A47A-C83F3CCD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80965B-552E-4DC9-8628-4FA00E14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4E54C-C9D0-409C-8692-61746E3F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627689-8CA9-4912-8848-56AD8EBA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2C3D0F-D971-4F86-889D-897DB0C7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435BFE-EF64-4657-ACC1-9746CFF0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8EC5A1-A92C-42F2-AA85-BDC5EDA0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92DD1D-76C2-47D0-B10C-D76934A4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47A734-1698-42E7-A568-73F1C2E2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68EEBF-3824-46A8-8223-E1DB81CD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A30C-E228-42DD-8038-29CCE6F4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01E9D7-40EA-41E2-864F-1E129596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EED56D-F68A-4C15-B328-16AB9441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792A4B-EC81-4456-B986-A177A303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33674-F452-49AC-916E-684BFBD6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9AB3A1-5029-4966-8D9C-6B460D14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5ABA0B-B663-457C-B6CB-5353C604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E89CC1-C648-4CFD-8D29-2F91224A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535FFE-F0B3-4359-9698-68CCFFC9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645BC2-BC27-40D7-8FCB-FFBF73D2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B9B75D-82DF-47EB-85E5-2F284B43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D0EC-8AF9-43D7-A81D-989FDA40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652077-0CB9-44D3-A90F-D2AB95E3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187E3F-9D42-4E3D-BCB0-80583BC3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6A6333-2FCD-4BA8-ADD4-9F8A5038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926839-EC8A-4641-9F34-453B36E9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F11DAD-15BD-4B4A-819E-BBCC2818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28CB6C-F756-4EF0-BBAF-5213B0E5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611A9D-5AEC-404C-AC51-CA1A878C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BD6F23-5835-423A-A68B-708A941F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DB92A1-0A1E-44FC-A451-F24F0816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DC3AF0-B45E-45D3-BAA9-7761F964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C72A-0E0D-45CA-B83C-F697947D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F61A09-7968-4990-8E40-96F0E4DA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EF606E-DAE7-4661-B54C-0C69019F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459469-4265-4801-9478-3BDE4DDB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FDB6E9-9052-4D92-A38F-1E6D6ECC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B889F7-571F-4D0B-9202-CBB8641D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89DF99-FD5A-4ABE-AA6E-F6819513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6EBEAD-7D1D-49CE-9594-015F98E6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003DA7-21B4-4084-B697-AA6BEC85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67870D-5B34-43BC-A602-9E0B03F7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837A92-D8F3-4370-BAC4-8D09B40F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DAEA-90C5-43FF-9BE3-09F1A42D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FD032A-C3F5-45AB-AB2D-DD685EA0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553D5-77AD-4A00-B131-9D5C7FBE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EE3226-856A-4281-BABA-8AD605DF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E41408-552B-458E-A48D-EC47C12B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D90251-1D48-4540-93CE-F45DFCB5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CF0A93-F0E4-4847-8732-E23BF040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3469FE-C1B1-4EF1-A87C-02B6258B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C69E91-7416-485D-ABCF-6DE1158B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60069-1BA9-4D18-8E18-E55E65AF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96A712-3168-4B1E-96B3-842C0B68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45079-27CE-42AA-A4B0-B7708BC9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20CFDF-75E9-4C24-9659-7ECFC914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BD66BF-633B-45FB-966D-100C0B8F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4B5788-697E-41BC-A1DB-5B194CC6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002231-919F-46B9-983F-022603E8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009437-C496-44CC-90CA-DBD6FDD0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0BE27E-062A-43EE-A779-7562B3F3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D885B0-1118-4741-ACAF-DB119195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86E525-B7A6-4FD4-9F5B-2BA3413A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A4EBE4-BA70-4644-A291-27258DC7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F50F08-6C83-4F9C-BF4A-81F82F82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0169F-E0D4-41B9-802D-2885D526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E1430F-50B2-490D-8442-54BDC6D7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13D8B6-08A6-472A-905F-5699D22A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DB2CD8-D5DB-4725-AE15-3A63555B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59353C-25DB-4CE1-A41B-EE1ED061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0C1F42-3BFD-4191-8EC4-BC7632FA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8EF691-58BD-4C32-AEB0-935FC2B7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5568B4-29CA-4EAB-BE7B-233BA7D5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33B617-8890-426B-9346-3DE131F7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603EF7-E404-4C78-BB01-72006E18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D2CF0E-911E-47CB-B910-E97B17EB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09FD6-CC4B-484F-8BDC-094ADACE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A6CCB8-EF7E-46CA-BA67-6CB53DD4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0E43AE-D847-4F28-B21C-5EAE06D3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04A790-8F84-4108-8B13-E4C4F536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8515A7-30A6-4ACC-9D5F-D3E1D4EC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3A2520-2306-4657-87CC-F3D0CF6A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B8B01B-7E10-4D5E-A5FC-24FFDD93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7C87B9-F441-41A1-9EDB-9E482B42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2264F4-F2A8-4ECD-9999-0D9212FE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5415C2-E84A-408F-B400-D54C2AE2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FF4152-B629-4B00-AF92-3284A509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EED98-0238-4F58-8C34-A2090DB8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387E99-48DD-47CC-84A7-C173FBF2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4C49D3-D980-4F6D-90C0-B71C0EF9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BAD0CF-6BE0-4D0B-A74B-03551BC2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28D679-D56E-4627-9EF2-A5E210C5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16A90F-CED8-475E-9336-0D690708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4259DB-4CDB-482A-A08F-F2E1760E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6B2FA9-3316-4EB6-BCB8-0FA0306C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0A9932-E636-42E3-A69A-07DCE33F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5DD9D4-00A3-4CBB-A47B-2655B021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1B9F3C-AD02-4CF0-8B60-086A27AA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8ACE5-6694-40A6-AE6F-E0B4B07E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B97EC8-1A12-4C14-A226-27CD2FB1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6C7FC7-1689-4548-802D-2AA79F79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4E3A0B-B37F-49B9-8EB2-813ACCA9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EE1DE8-051F-4422-8139-A83ABFAB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C6F65E-7387-44A3-84BA-3EA51DE2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AA1F29-4DE8-4293-A955-5EDED31C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4014B2-60AD-4057-AFEA-B0B34D4A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52E60B-2DF4-4DE5-9C87-A817F0F4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A1BC96-F25C-4307-B8D3-24A94A86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F4B881-4A62-4A26-939A-412824AE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4EA-3762-4C89-83EF-5E46A573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4F2FA-A0D0-43F1-A819-3880DFC9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22D2E3-2692-4B8B-883E-581EC899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2F3B1C-25A2-4EE3-9D58-AD18E022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EEF026-4094-4DED-BE3C-A8758765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33222A-F780-45D7-A4BF-28A1715A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DC008A-74F8-4429-BE10-A10AC6E9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8776F5-F246-4EF6-9745-7C5FBE75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1D415E-1181-413A-992A-0C13ADE5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24A976-369D-4027-877C-3A3BBDF7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BDB7B0-A08A-4CBF-B8BF-8A8227D4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483921-4DF1-4959-B872-BC2ECABC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07107-6A45-4E8C-A76A-6E781173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5A7332-F4E1-476F-BD69-03805634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871D65-5644-470E-BD64-ADF828BF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CE3709-367D-46C8-9EC1-5064E34D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ECB14D-F32F-46EA-9962-DF8DE763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689F80-3C11-4456-8A85-5DABBED1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0C9B7C-2AAE-4A29-807D-F99F0461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B9936F-97F4-4E71-98C6-55C3C74C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B68476-16B6-4122-8AB7-D1C06AE8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A01D10-405A-48EF-9622-C37B15C9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601C74-197A-4F05-99F3-ACA390AC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E9277-9A57-4B6C-8B23-B34B28BB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67A354-6479-4ED0-BA44-B660B01E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F2FF1C-76F5-45EC-9FB0-49ABCEBD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170FF8-4A17-48CF-8F0C-D38034BE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3EA8E1-8228-48B3-A9EA-BF6F9ADD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35C255-5386-4897-AAF9-6114BE6A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5AC0CD-9F52-4AC6-9BC0-44860E1C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6F5BE0-4451-4FDE-A6CD-545972C2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8D6BCD-450D-4EDA-B4B2-2C5369FF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6C7357-FEC9-47E0-B5EE-A76556F7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6DEE57-53F8-49B2-9708-231C88AC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A6371-C627-4D08-A549-E7CA658D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7DE4EB-10E9-4112-AE5A-05AF1246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1F455E-1F8C-4C58-820F-92E22BD7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589914-C78B-472A-BD7B-751B4235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5AC7F7-6267-4F1F-AB1B-E15E447B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845AC8-D655-4F9B-ADAA-42BD9265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41F788-7150-4FC0-BF33-3033D573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81C414-F1F1-441D-A087-7B8837F8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1C9D5B-12FC-42F8-8866-BE4436AD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B5DDD5-B2D5-4273-8171-66CF1E3A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BFD464-0DA6-4420-9E41-7A7A14C0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C885-98EE-41B2-A816-B98DC014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71E2E3-843B-4DA6-9D33-4CEE7367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C88BBC-8DC1-4B40-8644-FF0490DC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F52460-268F-4FFC-BAAE-6745EC19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5BB2BB-D72A-470E-88AA-339709B1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ED12BE-4C9A-48AE-A491-4D3D4652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90F561-44FC-4B07-9F6F-3F743A74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32B137-73EA-4407-90FA-9C504E53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E7FEFD-5D30-4E20-8650-E57296FF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957DD1-0717-4591-84B6-C5A9CB8F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FD32F5-6AFC-455F-B4B4-702D8B33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7E78D-2C0D-4670-8CE3-1145B7C8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88EB30-D7EC-4E03-9409-9C31C0D1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49DF0A-DE16-4A99-830D-DDE2F8F2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8677A5-2DFE-46C7-A813-228B2065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EBA541-B105-4715-B690-3D69FEF0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98BC4C-5E35-4C1B-A406-E50B24DF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554C13-9591-4A80-9CD4-74304EA0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923BFF-47B2-4CBD-9724-813EB6B5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D44849-3558-410B-98BE-7A87A2A1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880697-9FF5-4D91-B865-02D8B4D3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A968B2-CDA1-4742-A16D-0C523FC1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64EF-2D27-47BB-8B72-46E25B25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8F3D8D-2910-4027-8495-203E7790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9B310A-2B69-4434-AD4A-77564647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4D33CE-BF55-4221-B5F3-22B6CC6B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8834F1-9762-4BB9-9876-83D3B194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5756C7-7628-4C85-A123-F082F92A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76129F-6E4D-4ECC-8E0F-62363CB0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9A0500-916B-477B-893B-71345F0C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BBCF7E-C39C-4CF1-91EE-F13A8B80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1A2414-56E7-4742-8CF2-E5FCAE60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FF21DC-DED8-49A1-8543-D555D0A1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AE345-944C-4599-A12D-855720E0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4E82AF-9A3A-44D8-99A7-810342D9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16FF0A-733E-46AC-87B4-85038C55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4FF415-7EB7-4B4F-B2CD-71D6FCA8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A276C-7FF7-4025-8DB6-F0FC4A84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340D2-8131-44FF-AF19-2E2AD17A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298F-0304-4E5E-8CB5-3BE50E35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F57B5-45E5-43CB-9C3D-2B3D872F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905B-D1E6-4F41-A95D-0E7573AF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31765-2EAB-4E1C-B3F4-E8A48101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C4656-FF6D-450B-985D-B1D5AEAE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C8F26-A2F3-451B-994E-30CED40A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084B3-81A2-4B3F-804E-BF8C9B2E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B092D-D68A-4DF2-B32F-D0FD9818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935B5-20EC-4FB6-A933-36BA6C12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60685-EF48-4C44-85B4-AB59E49F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89945-BD94-4D74-A78F-AE1C2782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59E-3800-40DB-8A56-26F9FC48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B4831-A8BE-4C87-9D98-85A2DB1B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543D5-1198-48D9-8413-A1E5B8E8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05D43-2A74-4FD9-B89C-6C4BAAED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08A3E-8970-4A5F-ADC0-5BC99CF7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B665C-EA26-4937-ABAF-911A8F5E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81FFC-EB8E-4243-B12E-2C820C1A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10964-3C48-4999-9A60-BE4F8173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EE292-7706-441D-B947-9DF7E52F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E6418-A31F-4966-B00B-EF465D4B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348ED-F67A-4E85-8587-6A1528FD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C19-7EAD-454C-B986-63C6D5B1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02BD7-AAE6-4BC0-908E-9DFA6045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0FB16-F2AA-4AB9-859B-859D52AB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EE51C-F8F4-4FD0-BE92-36EF9279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342EE-5054-4F2B-A183-5AF66350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381D4-BC1A-4028-A950-F8014A68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4FDE1-BE33-45FE-A175-7178F6D1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E4237-0033-400F-9344-4D9DB180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F97B1-8FE8-44D5-B521-93B940AD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1B444-9C01-4A21-9858-B5E22C47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1CF1C-8CA8-412A-9531-A940688C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5B0-8CBC-41CD-AADA-D6816FB4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C6BA3-8C94-48B4-905C-90C87F5C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43003-B090-42EB-9F8C-AF12F4CD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EA36C-9675-4FF1-8DD6-C91882FB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85485-1F80-497A-8305-B21CA083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C1CC3-6BAD-49D6-ACFE-66D35AFF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A506C-30CD-4B92-8119-C96CD4DF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81318-5342-44A1-B698-2FF267C2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29BE4-5053-4EFE-89CF-17F3A92E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B95C9-9C14-477B-A366-3AE8262A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90C74-D035-4871-9043-6C0DF893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F99-E861-4E5D-8171-D98383FC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D0C86-735D-43D2-848C-F0A8B7B0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F57A1-C50D-48A7-B309-677AE16C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DDA26-0BD6-4C02-BD00-26B680D2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25C79-C7F1-4205-9E95-29265443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FA09B-D6A0-40AD-8C09-B2A852BD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D5E04-367E-4AA6-9AF6-30757C37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5F136-B915-4CC2-AA90-D73AA69E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63C3B-9156-439C-BBA6-DEF2B671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83F28-6C59-4588-9E27-81936315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AC6C3-E8D4-4271-8FD9-BD1D4B47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768-70DF-4D32-9AB7-DBD817FD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8488A-FE9F-4884-8D53-7B828753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48696-7C0A-4A3D-8799-6756D5A6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EA648-C201-4D80-BF47-9C525FCD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B8AD6-8E1F-4BE5-844C-04AA1072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A6CE1-FB0C-42A6-9F29-727539F8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A0978-10B7-4F29-8D17-7EBFF1BC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765E0-52E6-4818-AB2C-09C537FE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4FCCA-12EE-493A-B654-F1341A78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9F7AF-5D03-4D7A-87DD-44DD9182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EAFEE-B98C-426A-AA2F-89ABD092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F8FB-B6CF-431F-AD96-3BE3B10368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0637-60F3-4613-BF90-2C1C3D3BDD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9701-9584-40C3-95E9-11AD2E6148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CBCA-7708-4ED8-86B1-75854BFF9E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620C-6292-46C6-AE6F-1CD99E90C3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B4E1-21CA-4B84-AA2F-F87C5E6EE3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99BC-0331-495D-A0F0-38DC73DFC9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F448-49B3-465B-B681-007A02CA22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13EF-71C7-4FB0-AD8B-8E72F0FC6C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F394-CA7E-4EBE-B08B-BF74A9C424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214C-38B3-4A97-A290-7AEE5DBAE9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CA96-87CE-4E8E-BDCC-72906E6B40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B77B-1117-4009-9465-2126262319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BABF-C734-49CD-9F25-65C7B22D71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F660-C9CB-4E24-9224-FF4603CFDE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0EFC-7AEC-4891-A072-64604634E3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5088-B5FA-4C07-87A1-034E6A4ECE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C07C-44A5-4327-BE02-C7A5F25949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51F8-FB06-4F43-800B-4942B7F6A9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3DA4-3CD9-44E8-B233-478234BD3C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2EED-CE2C-4DBC-A1DA-3AA0218055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5170-FA3A-4D84-BD5B-486FF7E8B3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3AC3-973A-4404-8C86-C61723BC95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A4DB-269D-4215-9294-AAEA219E73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1C62-9719-41EB-9579-841CF2B7F7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C9BD-AB84-492A-AE9D-76BFA1D561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BB17-F73F-4E70-930E-BFFB0E183D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66D4-97B2-413F-8354-09E213BDE0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9888-4B64-4EC5-89F4-D6EC6BE445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4008-D9F3-476E-93AF-BEE0881828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BD47-57F1-4244-9CC6-D704658501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0BAF-27BA-439E-B27C-4147BD954A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B9AD-C2D4-475A-B085-62DA8BD467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1D3A-3F07-417B-873B-6DDB16DE73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B590-48BE-4495-90F9-A189D1C97A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0B0C-A9B1-4C87-967E-BC84018521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AD89-9453-466E-8571-69D6DD1D32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122C-A7F2-4D73-8F59-02AFE8C765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37E1-F15A-4CA1-B7EB-71D60DDAF5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1F6D-8749-4281-BBF9-1E4BD2BAE7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60EF-6D00-4231-9AF9-ECAAB27305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98C8-4537-424A-B086-DEA488EF60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E9D2-4249-4FD9-B3D0-E20EF2F3C5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24CC-78EB-4EEC-9A8A-5A0AF50DB4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71D6-7641-4F36-89DA-14E3CE12EA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A370-C73B-4FAA-8B37-7F5165BC1B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CD15-1FE3-4D11-BDB3-199045BDD5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B680-1FF9-42E9-9CBF-DCD7245F6E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9247-F4EC-4132-B0D3-2ADD027459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9CEC-CD2D-4456-A17A-26FE85F184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2162160" y="3095640"/>
            <a:ext cx="4819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79873" descr=""/>
          <p:cNvPicPr/>
          <p:nvPr/>
        </p:nvPicPr>
        <p:blipFill>
          <a:blip r:embed="rId1"/>
          <a:stretch/>
        </p:blipFill>
        <p:spPr>
          <a:xfrm>
            <a:off x="590400" y="2048040"/>
            <a:ext cx="7963200" cy="2761920"/>
          </a:xfrm>
          <a:prstGeom prst="rect">
            <a:avLst/>
          </a:prstGeom>
          <a:ln w="0">
            <a:noFill/>
          </a:ln>
        </p:spPr>
      </p:pic>
      <p:sp>
        <p:nvSpPr>
          <p:cNvPr id="1452" name="矩形 79874"/>
          <p:cNvSpPr/>
          <p:nvPr/>
        </p:nvSpPr>
        <p:spPr>
          <a:xfrm>
            <a:off x="7812000" y="2476440"/>
            <a:ext cx="4320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78849" descr=""/>
          <p:cNvPicPr/>
          <p:nvPr/>
        </p:nvPicPr>
        <p:blipFill>
          <a:blip r:embed="rId1"/>
          <a:stretch/>
        </p:blipFill>
        <p:spPr>
          <a:xfrm>
            <a:off x="538200" y="1571760"/>
            <a:ext cx="8067600" cy="3714480"/>
          </a:xfrm>
          <a:prstGeom prst="rect">
            <a:avLst/>
          </a:prstGeom>
          <a:ln w="0">
            <a:noFill/>
          </a:ln>
        </p:spPr>
      </p:pic>
      <p:sp>
        <p:nvSpPr>
          <p:cNvPr id="1454" name="矩形 78850"/>
          <p:cNvSpPr/>
          <p:nvPr/>
        </p:nvSpPr>
        <p:spPr>
          <a:xfrm>
            <a:off x="1763640" y="4398840"/>
            <a:ext cx="8636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78851"/>
          <p:cNvSpPr/>
          <p:nvPr/>
        </p:nvSpPr>
        <p:spPr>
          <a:xfrm>
            <a:off x="3564000" y="4437000"/>
            <a:ext cx="8636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77825" descr=""/>
          <p:cNvPicPr/>
          <p:nvPr/>
        </p:nvPicPr>
        <p:blipFill>
          <a:blip r:embed="rId1"/>
          <a:stretch/>
        </p:blipFill>
        <p:spPr>
          <a:xfrm>
            <a:off x="289080" y="1592280"/>
            <a:ext cx="7924680" cy="399960"/>
          </a:xfrm>
          <a:prstGeom prst="rect">
            <a:avLst/>
          </a:prstGeom>
          <a:ln w="0">
            <a:noFill/>
          </a:ln>
        </p:spPr>
      </p:pic>
      <p:pic>
        <p:nvPicPr>
          <p:cNvPr id="1457" name="图片 77826" descr=""/>
          <p:cNvPicPr/>
          <p:nvPr/>
        </p:nvPicPr>
        <p:blipFill>
          <a:blip r:embed="rId2"/>
          <a:stretch/>
        </p:blipFill>
        <p:spPr>
          <a:xfrm>
            <a:off x="868320" y="2081160"/>
            <a:ext cx="7439040" cy="2847960"/>
          </a:xfrm>
          <a:prstGeom prst="rect">
            <a:avLst/>
          </a:prstGeom>
          <a:ln w="0">
            <a:noFill/>
          </a:ln>
        </p:spPr>
      </p:pic>
      <p:sp>
        <p:nvSpPr>
          <p:cNvPr id="1458" name="矩形 77827"/>
          <p:cNvSpPr/>
          <p:nvPr/>
        </p:nvSpPr>
        <p:spPr>
          <a:xfrm>
            <a:off x="2843280" y="2565360"/>
            <a:ext cx="8697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77828"/>
          <p:cNvSpPr/>
          <p:nvPr/>
        </p:nvSpPr>
        <p:spPr>
          <a:xfrm>
            <a:off x="4560840" y="3046320"/>
            <a:ext cx="8701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77829"/>
          <p:cNvSpPr/>
          <p:nvPr/>
        </p:nvSpPr>
        <p:spPr>
          <a:xfrm>
            <a:off x="3276720" y="4437000"/>
            <a:ext cx="869760" cy="4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76801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001000" cy="1819440"/>
          </a:xfrm>
          <a:prstGeom prst="rect">
            <a:avLst/>
          </a:prstGeom>
          <a:ln w="0">
            <a:noFill/>
          </a:ln>
        </p:spPr>
      </p:pic>
      <p:pic>
        <p:nvPicPr>
          <p:cNvPr id="1462" name="图片 76802" descr=""/>
          <p:cNvPicPr/>
          <p:nvPr/>
        </p:nvPicPr>
        <p:blipFill>
          <a:blip r:embed="rId2"/>
          <a:stretch/>
        </p:blipFill>
        <p:spPr>
          <a:xfrm>
            <a:off x="1258920" y="3141720"/>
            <a:ext cx="3343320" cy="2857320"/>
          </a:xfrm>
          <a:prstGeom prst="rect">
            <a:avLst/>
          </a:prstGeom>
          <a:ln w="0">
            <a:noFill/>
          </a:ln>
        </p:spPr>
      </p:pic>
      <p:sp>
        <p:nvSpPr>
          <p:cNvPr id="1463" name="矩形 76803"/>
          <p:cNvSpPr/>
          <p:nvPr/>
        </p:nvSpPr>
        <p:spPr>
          <a:xfrm>
            <a:off x="1774800" y="2060640"/>
            <a:ext cx="80028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76804"/>
          <p:cNvSpPr/>
          <p:nvPr/>
        </p:nvSpPr>
        <p:spPr>
          <a:xfrm>
            <a:off x="4788000" y="2060640"/>
            <a:ext cx="4316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89089" descr=""/>
          <p:cNvPicPr/>
          <p:nvPr/>
        </p:nvPicPr>
        <p:blipFill>
          <a:blip r:embed="rId1"/>
          <a:stretch/>
        </p:blipFill>
        <p:spPr>
          <a:xfrm>
            <a:off x="515880" y="1101600"/>
            <a:ext cx="7962840" cy="1857600"/>
          </a:xfrm>
          <a:prstGeom prst="rect">
            <a:avLst/>
          </a:prstGeom>
          <a:ln w="0">
            <a:noFill/>
          </a:ln>
        </p:spPr>
      </p:pic>
      <p:pic>
        <p:nvPicPr>
          <p:cNvPr id="1466" name="图片 89090" descr=""/>
          <p:cNvPicPr/>
          <p:nvPr/>
        </p:nvPicPr>
        <p:blipFill>
          <a:blip r:embed="rId2"/>
          <a:stretch/>
        </p:blipFill>
        <p:spPr>
          <a:xfrm>
            <a:off x="1104840" y="3149640"/>
            <a:ext cx="3353040" cy="3114720"/>
          </a:xfrm>
          <a:prstGeom prst="rect">
            <a:avLst/>
          </a:prstGeom>
          <a:ln w="0">
            <a:noFill/>
          </a:ln>
        </p:spPr>
      </p:pic>
      <p:sp>
        <p:nvSpPr>
          <p:cNvPr id="1467" name="矩形 89091"/>
          <p:cNvSpPr/>
          <p:nvPr/>
        </p:nvSpPr>
        <p:spPr>
          <a:xfrm>
            <a:off x="1403280" y="2492280"/>
            <a:ext cx="4320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89092"/>
          <p:cNvSpPr/>
          <p:nvPr/>
        </p:nvSpPr>
        <p:spPr>
          <a:xfrm>
            <a:off x="4932360" y="2492280"/>
            <a:ext cx="4316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90113" descr=""/>
          <p:cNvPicPr/>
          <p:nvPr/>
        </p:nvPicPr>
        <p:blipFill>
          <a:blip r:embed="rId1"/>
          <a:stretch/>
        </p:blipFill>
        <p:spPr>
          <a:xfrm>
            <a:off x="542880" y="1209600"/>
            <a:ext cx="8058240" cy="4438800"/>
          </a:xfrm>
          <a:prstGeom prst="rect">
            <a:avLst/>
          </a:prstGeom>
          <a:ln w="0">
            <a:noFill/>
          </a:ln>
        </p:spPr>
      </p:pic>
      <p:sp>
        <p:nvSpPr>
          <p:cNvPr id="1470" name="矩形 90114"/>
          <p:cNvSpPr/>
          <p:nvPr/>
        </p:nvSpPr>
        <p:spPr>
          <a:xfrm>
            <a:off x="1187280" y="3141720"/>
            <a:ext cx="43214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90115"/>
          <p:cNvSpPr/>
          <p:nvPr/>
        </p:nvSpPr>
        <p:spPr>
          <a:xfrm>
            <a:off x="1187280" y="3573360"/>
            <a:ext cx="43214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90116"/>
          <p:cNvSpPr/>
          <p:nvPr/>
        </p:nvSpPr>
        <p:spPr>
          <a:xfrm>
            <a:off x="1116000" y="4076640"/>
            <a:ext cx="44640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90117"/>
          <p:cNvSpPr/>
          <p:nvPr/>
        </p:nvSpPr>
        <p:spPr>
          <a:xfrm>
            <a:off x="1116000" y="4508640"/>
            <a:ext cx="44640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90118"/>
          <p:cNvSpPr/>
          <p:nvPr/>
        </p:nvSpPr>
        <p:spPr>
          <a:xfrm>
            <a:off x="1042920" y="5013360"/>
            <a:ext cx="27370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91137" descr=""/>
          <p:cNvPicPr/>
          <p:nvPr/>
        </p:nvPicPr>
        <p:blipFill>
          <a:blip r:embed="rId1"/>
          <a:stretch/>
        </p:blipFill>
        <p:spPr>
          <a:xfrm>
            <a:off x="557280" y="766800"/>
            <a:ext cx="8029440" cy="5324400"/>
          </a:xfrm>
          <a:prstGeom prst="rect">
            <a:avLst/>
          </a:prstGeom>
          <a:ln w="0">
            <a:noFill/>
          </a:ln>
        </p:spPr>
      </p:pic>
      <p:sp>
        <p:nvSpPr>
          <p:cNvPr id="1476" name="矩形 91138"/>
          <p:cNvSpPr/>
          <p:nvPr/>
        </p:nvSpPr>
        <p:spPr>
          <a:xfrm>
            <a:off x="1979640" y="5661000"/>
            <a:ext cx="9367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92161" descr=""/>
          <p:cNvPicPr/>
          <p:nvPr/>
        </p:nvPicPr>
        <p:blipFill>
          <a:blip r:embed="rId1"/>
          <a:stretch/>
        </p:blipFill>
        <p:spPr>
          <a:xfrm>
            <a:off x="843120" y="2057400"/>
            <a:ext cx="7457760" cy="2743200"/>
          </a:xfrm>
          <a:prstGeom prst="rect">
            <a:avLst/>
          </a:prstGeom>
          <a:ln w="0">
            <a:noFill/>
          </a:ln>
        </p:spPr>
      </p:pic>
      <p:sp>
        <p:nvSpPr>
          <p:cNvPr id="1478" name="矩形 92162"/>
          <p:cNvSpPr/>
          <p:nvPr/>
        </p:nvSpPr>
        <p:spPr>
          <a:xfrm>
            <a:off x="5148360" y="2060640"/>
            <a:ext cx="9190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92163"/>
          <p:cNvSpPr/>
          <p:nvPr/>
        </p:nvSpPr>
        <p:spPr>
          <a:xfrm>
            <a:off x="2340000" y="3467160"/>
            <a:ext cx="29970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93185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344000" cy="828720"/>
          </a:xfrm>
          <a:prstGeom prst="rect">
            <a:avLst/>
          </a:prstGeom>
          <a:ln w="0">
            <a:noFill/>
          </a:ln>
        </p:spPr>
      </p:pic>
      <p:pic>
        <p:nvPicPr>
          <p:cNvPr id="1481" name="图片 93186" descr=""/>
          <p:cNvPicPr/>
          <p:nvPr/>
        </p:nvPicPr>
        <p:blipFill>
          <a:blip r:embed="rId2"/>
          <a:stretch/>
        </p:blipFill>
        <p:spPr>
          <a:xfrm>
            <a:off x="1258920" y="2997360"/>
            <a:ext cx="6877080" cy="1390320"/>
          </a:xfrm>
          <a:prstGeom prst="rect">
            <a:avLst/>
          </a:prstGeom>
          <a:ln w="0">
            <a:noFill/>
          </a:ln>
        </p:spPr>
      </p:pic>
      <p:sp>
        <p:nvSpPr>
          <p:cNvPr id="1482" name="矩形 93187"/>
          <p:cNvSpPr/>
          <p:nvPr/>
        </p:nvSpPr>
        <p:spPr>
          <a:xfrm>
            <a:off x="3024360" y="3933720"/>
            <a:ext cx="26636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94209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020080" cy="924120"/>
          </a:xfrm>
          <a:prstGeom prst="rect">
            <a:avLst/>
          </a:prstGeom>
          <a:ln w="0">
            <a:noFill/>
          </a:ln>
        </p:spPr>
      </p:pic>
      <p:pic>
        <p:nvPicPr>
          <p:cNvPr id="1484" name="图片 94210" descr=""/>
          <p:cNvPicPr/>
          <p:nvPr/>
        </p:nvPicPr>
        <p:blipFill>
          <a:blip r:embed="rId2"/>
          <a:stretch/>
        </p:blipFill>
        <p:spPr>
          <a:xfrm>
            <a:off x="1116000" y="1773360"/>
            <a:ext cx="1657440" cy="3514680"/>
          </a:xfrm>
          <a:prstGeom prst="rect">
            <a:avLst/>
          </a:prstGeom>
          <a:ln w="0">
            <a:noFill/>
          </a:ln>
        </p:spPr>
      </p:pic>
      <p:pic>
        <p:nvPicPr>
          <p:cNvPr id="1485" name="图片 94211" descr=""/>
          <p:cNvPicPr/>
          <p:nvPr/>
        </p:nvPicPr>
        <p:blipFill>
          <a:blip r:embed="rId3"/>
          <a:stretch/>
        </p:blipFill>
        <p:spPr>
          <a:xfrm>
            <a:off x="1258920" y="5445000"/>
            <a:ext cx="7439040" cy="895320"/>
          </a:xfrm>
          <a:prstGeom prst="rect">
            <a:avLst/>
          </a:prstGeom>
          <a:ln w="0">
            <a:noFill/>
          </a:ln>
        </p:spPr>
      </p:pic>
      <p:sp>
        <p:nvSpPr>
          <p:cNvPr id="1486" name="矩形 94212"/>
          <p:cNvSpPr/>
          <p:nvPr/>
        </p:nvSpPr>
        <p:spPr>
          <a:xfrm>
            <a:off x="3635280" y="5877000"/>
            <a:ext cx="15130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533520" y="1566720"/>
            <a:ext cx="8076960" cy="3724560"/>
          </a:xfrm>
          <a:prstGeom prst="rect">
            <a:avLst/>
          </a:prstGeom>
          <a:ln w="0">
            <a:noFill/>
          </a:ln>
        </p:spPr>
      </p:pic>
      <p:sp>
        <p:nvSpPr>
          <p:cNvPr id="1434" name="矩形 88066"/>
          <p:cNvSpPr/>
          <p:nvPr/>
        </p:nvSpPr>
        <p:spPr>
          <a:xfrm>
            <a:off x="7812000" y="2454120"/>
            <a:ext cx="432000" cy="3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95233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353360" cy="895320"/>
          </a:xfrm>
          <a:prstGeom prst="rect">
            <a:avLst/>
          </a:prstGeom>
          <a:ln w="0">
            <a:noFill/>
          </a:ln>
        </p:spPr>
      </p:pic>
      <p:pic>
        <p:nvPicPr>
          <p:cNvPr id="1488" name="图片 95234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5496120" cy="3305160"/>
          </a:xfrm>
          <a:prstGeom prst="rect">
            <a:avLst/>
          </a:prstGeom>
          <a:ln w="0">
            <a:noFill/>
          </a:ln>
        </p:spPr>
      </p:pic>
      <p:sp>
        <p:nvSpPr>
          <p:cNvPr id="1489" name="矩形 95235"/>
          <p:cNvSpPr/>
          <p:nvPr/>
        </p:nvSpPr>
        <p:spPr>
          <a:xfrm>
            <a:off x="3564000" y="1484280"/>
            <a:ext cx="4316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96257" descr=""/>
          <p:cNvPicPr/>
          <p:nvPr/>
        </p:nvPicPr>
        <p:blipFill>
          <a:blip r:embed="rId1"/>
          <a:stretch/>
        </p:blipFill>
        <p:spPr>
          <a:xfrm>
            <a:off x="843120" y="2252520"/>
            <a:ext cx="7457760" cy="2352960"/>
          </a:xfrm>
          <a:prstGeom prst="rect">
            <a:avLst/>
          </a:prstGeom>
          <a:ln w="0">
            <a:noFill/>
          </a:ln>
        </p:spPr>
      </p:pic>
      <p:sp>
        <p:nvSpPr>
          <p:cNvPr id="1491" name="矩形 96258"/>
          <p:cNvSpPr/>
          <p:nvPr/>
        </p:nvSpPr>
        <p:spPr>
          <a:xfrm>
            <a:off x="6084720" y="3645000"/>
            <a:ext cx="15829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96259"/>
          <p:cNvSpPr/>
          <p:nvPr/>
        </p:nvSpPr>
        <p:spPr>
          <a:xfrm>
            <a:off x="2916360" y="4149720"/>
            <a:ext cx="9777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97281" descr=""/>
          <p:cNvPicPr/>
          <p:nvPr/>
        </p:nvPicPr>
        <p:blipFill>
          <a:blip r:embed="rId1"/>
          <a:stretch/>
        </p:blipFill>
        <p:spPr>
          <a:xfrm>
            <a:off x="666720" y="1433520"/>
            <a:ext cx="7810560" cy="3990960"/>
          </a:xfrm>
          <a:prstGeom prst="rect">
            <a:avLst/>
          </a:prstGeom>
          <a:ln w="0">
            <a:noFill/>
          </a:ln>
        </p:spPr>
      </p:pic>
      <p:pic>
        <p:nvPicPr>
          <p:cNvPr id="1494" name="图片 97282" descr=""/>
          <p:cNvPicPr/>
          <p:nvPr/>
        </p:nvPicPr>
        <p:blipFill>
          <a:blip r:embed="rId2"/>
          <a:stretch/>
        </p:blipFill>
        <p:spPr>
          <a:xfrm>
            <a:off x="3664080" y="1835280"/>
            <a:ext cx="49147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98305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391520" cy="5810400"/>
          </a:xfrm>
          <a:prstGeom prst="rect">
            <a:avLst/>
          </a:prstGeom>
          <a:ln w="0">
            <a:noFill/>
          </a:ln>
        </p:spPr>
      </p:pic>
      <p:sp>
        <p:nvSpPr>
          <p:cNvPr id="1496" name="矩形 98306"/>
          <p:cNvSpPr/>
          <p:nvPr/>
        </p:nvSpPr>
        <p:spPr>
          <a:xfrm>
            <a:off x="3780000" y="1279440"/>
            <a:ext cx="15840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98307"/>
          <p:cNvSpPr/>
          <p:nvPr/>
        </p:nvSpPr>
        <p:spPr>
          <a:xfrm>
            <a:off x="4788000" y="5796000"/>
            <a:ext cx="8636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图片 99329" descr=""/>
          <p:cNvPicPr/>
          <p:nvPr/>
        </p:nvPicPr>
        <p:blipFill>
          <a:blip r:embed="rId1"/>
          <a:stretch/>
        </p:blipFill>
        <p:spPr>
          <a:xfrm>
            <a:off x="866880" y="1557360"/>
            <a:ext cx="7410240" cy="3743280"/>
          </a:xfrm>
          <a:prstGeom prst="rect">
            <a:avLst/>
          </a:prstGeom>
          <a:ln w="0">
            <a:noFill/>
          </a:ln>
        </p:spPr>
      </p:pic>
      <p:sp>
        <p:nvSpPr>
          <p:cNvPr id="1499" name="矩形 99330"/>
          <p:cNvSpPr/>
          <p:nvPr/>
        </p:nvSpPr>
        <p:spPr>
          <a:xfrm>
            <a:off x="1332000" y="2543040"/>
            <a:ext cx="22129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99331"/>
          <p:cNvSpPr/>
          <p:nvPr/>
        </p:nvSpPr>
        <p:spPr>
          <a:xfrm>
            <a:off x="2330280" y="3438360"/>
            <a:ext cx="1800360" cy="3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99332"/>
          <p:cNvSpPr/>
          <p:nvPr/>
        </p:nvSpPr>
        <p:spPr>
          <a:xfrm>
            <a:off x="4262400" y="4403880"/>
            <a:ext cx="16556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87041" descr=""/>
          <p:cNvPicPr/>
          <p:nvPr/>
        </p:nvPicPr>
        <p:blipFill>
          <a:blip r:embed="rId1"/>
          <a:stretch/>
        </p:blipFill>
        <p:spPr>
          <a:xfrm>
            <a:off x="507960" y="784080"/>
            <a:ext cx="8067600" cy="5916600"/>
          </a:xfrm>
          <a:prstGeom prst="rect">
            <a:avLst/>
          </a:prstGeom>
          <a:ln w="0">
            <a:noFill/>
          </a:ln>
        </p:spPr>
      </p:pic>
      <p:sp>
        <p:nvSpPr>
          <p:cNvPr id="1436" name="矩形 87045"/>
          <p:cNvSpPr/>
          <p:nvPr/>
        </p:nvSpPr>
        <p:spPr>
          <a:xfrm>
            <a:off x="7740720" y="1268280"/>
            <a:ext cx="4316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87046"/>
          <p:cNvSpPr/>
          <p:nvPr/>
        </p:nvSpPr>
        <p:spPr>
          <a:xfrm>
            <a:off x="7812000" y="4292640"/>
            <a:ext cx="4320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6017" descr=""/>
          <p:cNvPicPr/>
          <p:nvPr/>
        </p:nvPicPr>
        <p:blipFill>
          <a:blip r:embed="rId1"/>
          <a:stretch/>
        </p:blipFill>
        <p:spPr>
          <a:xfrm>
            <a:off x="500040" y="1319040"/>
            <a:ext cx="8143920" cy="4219920"/>
          </a:xfrm>
          <a:prstGeom prst="rect">
            <a:avLst/>
          </a:prstGeom>
          <a:ln w="0">
            <a:noFill/>
          </a:ln>
        </p:spPr>
      </p:pic>
      <p:sp>
        <p:nvSpPr>
          <p:cNvPr id="1439" name="矩形 86018"/>
          <p:cNvSpPr/>
          <p:nvPr/>
        </p:nvSpPr>
        <p:spPr>
          <a:xfrm>
            <a:off x="7812000" y="3716280"/>
            <a:ext cx="4320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84993" descr=""/>
          <p:cNvPicPr/>
          <p:nvPr/>
        </p:nvPicPr>
        <p:blipFill>
          <a:blip r:embed="rId1"/>
          <a:stretch/>
        </p:blipFill>
        <p:spPr>
          <a:xfrm>
            <a:off x="571680" y="828720"/>
            <a:ext cx="8001000" cy="5200560"/>
          </a:xfrm>
          <a:prstGeom prst="rect">
            <a:avLst/>
          </a:prstGeom>
          <a:ln w="0">
            <a:noFill/>
          </a:ln>
        </p:spPr>
      </p:pic>
      <p:sp>
        <p:nvSpPr>
          <p:cNvPr id="1441" name="矩形 84994"/>
          <p:cNvSpPr/>
          <p:nvPr/>
        </p:nvSpPr>
        <p:spPr>
          <a:xfrm>
            <a:off x="3635280" y="2708280"/>
            <a:ext cx="4320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83969" descr=""/>
          <p:cNvPicPr/>
          <p:nvPr/>
        </p:nvPicPr>
        <p:blipFill>
          <a:blip r:embed="rId1"/>
          <a:stretch/>
        </p:blipFill>
        <p:spPr>
          <a:xfrm>
            <a:off x="458640" y="1434960"/>
            <a:ext cx="7972560" cy="2810160"/>
          </a:xfrm>
          <a:prstGeom prst="rect">
            <a:avLst/>
          </a:prstGeom>
          <a:ln w="0">
            <a:noFill/>
          </a:ln>
        </p:spPr>
      </p:pic>
      <p:pic>
        <p:nvPicPr>
          <p:cNvPr id="1443" name="图片 83970" descr=""/>
          <p:cNvPicPr/>
          <p:nvPr/>
        </p:nvPicPr>
        <p:blipFill>
          <a:blip r:embed="rId2"/>
          <a:stretch/>
        </p:blipFill>
        <p:spPr>
          <a:xfrm>
            <a:off x="847800" y="4371840"/>
            <a:ext cx="7020000" cy="866880"/>
          </a:xfrm>
          <a:prstGeom prst="rect">
            <a:avLst/>
          </a:prstGeom>
          <a:ln w="0">
            <a:noFill/>
          </a:ln>
        </p:spPr>
      </p:pic>
      <p:sp>
        <p:nvSpPr>
          <p:cNvPr id="1444" name="矩形 83971"/>
          <p:cNvSpPr/>
          <p:nvPr/>
        </p:nvSpPr>
        <p:spPr>
          <a:xfrm>
            <a:off x="7740720" y="1916280"/>
            <a:ext cx="4316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82945" descr=""/>
          <p:cNvPicPr/>
          <p:nvPr/>
        </p:nvPicPr>
        <p:blipFill>
          <a:blip r:embed="rId1"/>
          <a:stretch/>
        </p:blipFill>
        <p:spPr>
          <a:xfrm>
            <a:off x="519120" y="743040"/>
            <a:ext cx="7878600" cy="5891040"/>
          </a:xfrm>
          <a:prstGeom prst="rect">
            <a:avLst/>
          </a:prstGeom>
          <a:ln w="0">
            <a:noFill/>
          </a:ln>
        </p:spPr>
      </p:pic>
      <p:sp>
        <p:nvSpPr>
          <p:cNvPr id="1446" name="矩形 82946"/>
          <p:cNvSpPr/>
          <p:nvPr/>
        </p:nvSpPr>
        <p:spPr>
          <a:xfrm>
            <a:off x="7667640" y="1125360"/>
            <a:ext cx="431640" cy="3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81921" descr=""/>
          <p:cNvPicPr/>
          <p:nvPr/>
        </p:nvPicPr>
        <p:blipFill>
          <a:blip r:embed="rId1"/>
          <a:stretch/>
        </p:blipFill>
        <p:spPr>
          <a:xfrm>
            <a:off x="523800" y="2028960"/>
            <a:ext cx="8096400" cy="2800080"/>
          </a:xfrm>
          <a:prstGeom prst="rect">
            <a:avLst/>
          </a:prstGeom>
          <a:ln w="0">
            <a:noFill/>
          </a:ln>
        </p:spPr>
      </p:pic>
      <p:sp>
        <p:nvSpPr>
          <p:cNvPr id="1448" name="矩形 81922"/>
          <p:cNvSpPr/>
          <p:nvPr/>
        </p:nvSpPr>
        <p:spPr>
          <a:xfrm>
            <a:off x="7773840" y="2543040"/>
            <a:ext cx="4320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80897" descr=""/>
          <p:cNvPicPr/>
          <p:nvPr/>
        </p:nvPicPr>
        <p:blipFill>
          <a:blip r:embed="rId1"/>
          <a:stretch/>
        </p:blipFill>
        <p:spPr>
          <a:xfrm>
            <a:off x="519120" y="1095480"/>
            <a:ext cx="8105760" cy="4667040"/>
          </a:xfrm>
          <a:prstGeom prst="rect">
            <a:avLst/>
          </a:prstGeom>
          <a:ln w="0">
            <a:noFill/>
          </a:ln>
        </p:spPr>
      </p:pic>
      <p:sp>
        <p:nvSpPr>
          <p:cNvPr id="1450" name="矩形 80898"/>
          <p:cNvSpPr/>
          <p:nvPr/>
        </p:nvSpPr>
        <p:spPr>
          <a:xfrm>
            <a:off x="3419640" y="2997360"/>
            <a:ext cx="4316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2:35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